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622-2388-4D23-BB05-6867990A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999-73D0-4C94-A9E9-C68155BC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B95-B45A-472D-9020-631CEBCE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064-6F04-4A83-B640-068391B9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76B-C6FE-40B1-99DB-D2AE42FD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FDC-566E-4252-8E34-474F06BE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4A0-91B2-43FB-99C6-27EC7307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E44-2912-44ED-B118-71AD4D90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1B5-B224-49E0-BFED-65D0191C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CC6-C052-4123-B55D-2B7A690E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3FD-D156-432A-B79F-322DF5E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B52-9BB0-4EAB-BD07-363CE713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211B-A86B-49CA-9FD1-C14794BE0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gre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erican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8098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ive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 = return control of the government to the people, restore economic opportunities, and correct injustices in America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ct social wel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ote moral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economic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ster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tic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gressive Mov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ing social welf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tlement houses, soup kitchens, YM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ing moral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ing economic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krakers – journalists who wrote about corrupt business and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stering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fic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embly lin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ion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tlement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4067280" cy="2968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10360" y="1692360"/>
            <a:ext cx="271440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10360" y="4013280"/>
            <a:ext cx="2714400" cy="203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4960" y="464832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milation, Education,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68520" y="1600200"/>
            <a:ext cx="4206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58880" y="1600200"/>
            <a:ext cx="4024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75000" y="1600200"/>
            <a:ext cx="419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er T. and W.E.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ection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Booker T. and W.E.B. p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author seem to support the philosophy of Washington or Du Bois?  How can you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actors may have influenced the poet’s point of vi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m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wo new stanzas for the poem, one from Washington’s perspective and one from Du Bois’ per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original poem’s structure and rhy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ll of these words in your po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er T. stanza = accommodate, educate, publicity, Tuskeg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.E.B. stanza = agitate, debate, equality, NAA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5:47:58Z</dcterms:created>
  <dc:creator> </dc:creator>
  <dc:description/>
  <dc:language>en-US</dc:language>
  <cp:lastModifiedBy>School District U46</cp:lastModifiedBy>
  <dcterms:modified xsi:type="dcterms:W3CDTF">2008-10-21T13:54:06Z</dcterms:modified>
  <cp:revision>2</cp:revision>
  <dc:subject/>
  <dc:title>Slide 1</dc:title>
</cp:coreProperties>
</file>